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FBB4-C4B9-4675-A333-9F2E5FED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09F8-DC36-45E8-A579-6F966512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2E61-A189-49E9-89D4-9A5BD52D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E0D3-C6AD-4874-836E-130D2F9F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18A1-D90E-4095-A851-25104E0A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D755-BF4D-490B-B0A1-BE985AA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3D0E-F183-45E6-A687-57E905BE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FC93-87BB-4222-A61B-7739687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5C2A-0431-4EC3-A206-F1BFFB72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8612-1E5D-41C6-82B1-B5646FF8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C94B-B16C-4EE5-97D1-C694320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9A31-9B08-4110-99C7-C363814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CBC9-4A14-40CC-9980-AC6E705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4B4D-9B0D-43A1-8BCE-E2F9A07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44E8-04FA-444E-891E-70E1106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6907-D1AE-4618-A635-6FAB9325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2FBB-8098-473B-9A07-0A293FA3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9876-579E-4FCE-BE9A-08B20B36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321E-9B7E-45A6-97CB-BEB8B27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AA3B-6456-4481-8CBB-BE3D1850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B211-6016-4DE7-B580-EC735BFC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C148-5D6F-456A-9CEE-FD8AA65D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BA85-40BB-4BEF-BD3A-AC4C1CC9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6D40-7621-45B9-B57F-F41C175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5182-C452-4731-93CA-85B69EDD5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285-70ED-42C1-B23D-3B910F455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41.xml"/><Relationship Id="rId3" Type="http://schemas.openxmlformats.org/officeDocument/2006/relationships/slide" Target="slide84.xml"/><Relationship Id="rId4" Type="http://schemas.openxmlformats.org/officeDocument/2006/relationships/slide" Target="slide117.xml"/><Relationship Id="rId5" Type="http://schemas.openxmlformats.org/officeDocument/2006/relationships/slide" Target="slide128.xml"/><Relationship Id="rId6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Quilt%20Story.htm" TargetMode="External"/><Relationship Id="rId2" Type="http://schemas.openxmlformats.org/officeDocument/2006/relationships/hyperlink" Target="http://www.scottsboro.org/~flewis/SF%20Reading%20Street/spellmaster/Quilt%20Story/jigword2.html" TargetMode="External"/><Relationship Id="rId3" Type="http://schemas.openxmlformats.org/officeDocument/2006/relationships/hyperlink" Target="http://www.scottsboro.org/~flewis/SF%20Reading%20Street/spellmaster/Quilt%20Story/matchword2.html" TargetMode="External"/><Relationship Id="rId4" Type="http://schemas.openxmlformats.org/officeDocument/2006/relationships/hyperlink" Target="http://www.scottsboro.org/~flewis/SF%20Reading%20Street/spellmaster/Quilt%20Story/speedword2.html" TargetMode="External"/><Relationship Id="rId5" Type="http://schemas.openxmlformats.org/officeDocument/2006/relationships/hyperlink" Target="http://www.scottsboro.org/~flewis/SF%20Reading%20Street/spellmaster/Quilt%20Story/speedword2.html" TargetMode="External"/><Relationship Id="rId6" Type="http://schemas.openxmlformats.org/officeDocument/2006/relationships/hyperlink" Target="http://www.scottsboro.org/~flewis/SF%20Reading%20Street/spellmaster/Quilt%20Story/wordweb.html" TargetMode="External"/><Relationship Id="rId7" Type="http://schemas.openxmlformats.org/officeDocument/2006/relationships/hyperlink" Target="http://www.scottsboro.org/~flewis/SF%20Reading%20Street/spellmaster/Quilt%20Story%20Spelling%20Words/speedword2.html" TargetMode="External"/><Relationship Id="rId8" Type="http://schemas.openxmlformats.org/officeDocument/2006/relationships/hyperlink" Target="http://www.scottsboro.org/~flewis/SF%20Reading%20Street/spellmaster/Quilt%20Story%20Spelling%20Words/wordweb.html" TargetMode="External"/><Relationship Id="rId9" Type="http://schemas.openxmlformats.org/officeDocument/2006/relationships/hyperlink" Target="http://www.quia.com/hm/316897.html" TargetMode="External"/><Relationship Id="rId10" Type="http://schemas.openxmlformats.org/officeDocument/2006/relationships/hyperlink" Target="http://www.spellingcity.com/index.php?option=com_spellcity&amp;Itemid=122&amp;task=viewList&amp;listId=354265" TargetMode="External"/><Relationship Id="rId11" Type="http://schemas.openxmlformats.org/officeDocument/2006/relationships/hyperlink" Target="http://www.scottsboro.org/~flewis/SF%20Reading%20Street/Hot%20Potatoes/Quilt_Story.htm" TargetMode="External"/><Relationship Id="rId12" Type="http://schemas.openxmlformats.org/officeDocument/2006/relationships/hyperlink" Target="http://www.scottsboro.org/~flewis/SF%20Reading%20Street/Hot%20Potatoes/Quilt_Story.htm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8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" Target="slide76.xml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singingquilter.com/Star%2520and%2520Plume%2520quilt%2520cropped.jpg&amp;imgrefurl=http://www.singingquilter.com/myquilts.htm&amp;usg=__b3vAuXrBJewVdiwvQ3rKbVtXWlg=&amp;h=866&amp;w=635&amp;sz=688&amp;hl=en&amp;start=2&amp;tbnid=9DbFwmcLs7TkSM:&amp;tbnh=145&amp;tbnw=106&amp;prev=/images?q=quilt&amp;gbv=2&amp;hl=en&amp;sa=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swmpratt.com/images/Nf11quilt.jpg&amp;imgrefurl=http://www.swmpratt.com/quiltsinprogress.htm&amp;usg=__qYCVfy1o0oSuBfpVTAR0_IVxJBU=&amp;h=903&amp;w=897&amp;sz=193&amp;hl=en&amp;start=4&amp;tbnid=c2N6nbstZsXVFM:&amp;tbnh=147&amp;tbnw=146&amp;prev=/images?q=quilt&amp;gbv=2&amp;hl=en&amp;sa=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lazygirldesigns.com/blog/wp-content/uploads/2007/06/Twilight%2520Quilt%25202.jpg&amp;imgrefurl=http://www.lazygirldesigns.com/blog/?p=655&amp;usg=__3Jveodig7ytvdc9YIiLXbV79tis=&amp;h=638&amp;w=600&amp;sz=176&amp;hl=en&amp;start=9&amp;tbnid=BtNpos1DttUV5M:&amp;tbnh=137&amp;tbnw=129&amp;prev=/images?q=quilt&amp;gbv=2&amp;hl=en&amp;sa=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babybebop.com/images/quilt.jpg&amp;imgrefurl=http://www.babybebop.com/quilt.html&amp;usg=__tzWc6e4m0xIXTv89XMFPIdRu5Pg=&amp;h=370&amp;w=500&amp;sz=46&amp;hl=en&amp;start=15&amp;tbnid=Q6E6HLvQA2jABM:&amp;tbnh=96&amp;tbnw=130&amp;prev=/images?q=quilt&amp;gbv=2&amp;hl=en&amp;sa=G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www.janesassaman.com/core-pages/exoticquiltgallery/exoticquiltimages/TreeQuilt-cmyk.jpg&amp;imgrefurl=http://www.janesassaman.com/special-pages/pre-fall2003/treeoflife/treeoflifedownload.html&amp;usg=__gFEC5Fc6ld1rl-eb8neR-Nvr7xs=&amp;h=587&amp;w=360&amp;sz=102&amp;hl=en&amp;start=17&amp;tbnid=mBTc3lkHhZqZVM:&amp;tbnh=135&amp;tbnw=83&amp;prev=/images?q=quilt&amp;gbv=2&amp;hl=en&amp;sa=G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upload.wikimedia.org/wikipedia/commons/thumb/7/77/Crazy_Quilt_(solitaire).jpg/500px-Crazy_Quilt_(solitaire).jpg&amp;imgrefurl=http://en.wikipedia.org/wiki/Crazy_Quilt_(solitaire)&amp;usg=__WPE8YI6PmPRUAQrmQXogH4bd17g=&amp;h=514&amp;w=500&amp;sz=95&amp;hl=en&amp;start=16&amp;tbnid=URGoMeU-0aXMuM:&amp;tbnh=131&amp;tbnw=127&amp;prev=/images?q=quilt&amp;gbv=2&amp;hl=en&amp;sa=G" TargetMode="External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moritzdesigns.com/quilting/quilt2.GIF&amp;imgrefurl=http://www.moritzdesigns.com/quilting/frame.html&amp;usg=__loFSROn_sVpi6gCLolRwB2iIEkk=&amp;h=273&amp;w=301&amp;sz=31&amp;hl=en&amp;start=5&amp;tbnid=MTobNlDxI6pYVM:&amp;tbnh=105&amp;tbnw=116&amp;prev=/images?q=quilt+frames&amp;gbv=2&amp;hl=en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s://secure.mennonite.net/.cWtools/download.php/mnF=MattNanHQUILTS.JPG,mnOD=Pictures,mnOD=My%2520Documents,dc=salemmennonite,dc=oh,dc=us,dc=mennonite,dc=net&amp;imgrefurl=http://salemmennonite.oh.us.mennonite.net/In_Our_Church/QUILTS__ETC.&amp;usg=__NXkr5X9kdlWrbDpxI3wur_2fO38=&amp;h=619&amp;w=982&amp;sz=148&amp;hl=en&amp;start=9&amp;tbnid=Fpi17-7tkXTd7M:&amp;tbnh=94&amp;tbnw=149&amp;prev=/images?q=quilt+frames&amp;gbv=2&amp;hl=e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quilts-frames-racks.com/db2/00147/quilts-frames-racks.com/_uimages/BabySize.jpg&amp;imgrefurl=http://quilts-frames-racks.com/_wsn/page3.html&amp;usg=__pBFmp_uuKN8q65qMSitYuknp-2E=&amp;h=480&amp;w=640&amp;sz=73&amp;hl=en&amp;start=10&amp;tbnid=Deh1zmPhmDOC9M:&amp;tbnh=103&amp;tbnw=137&amp;prev=/images?q=quilt+frames&amp;gbv=2&amp;hl=en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moritzdesigns.com/quilting/qframefront.jpg&amp;imgrefurl=http://www.moritzdesigns.com/quilting/frame.html&amp;usg=__ANrlKzOJLIADeuEaC7OsG2B_000=&amp;h=281&amp;w=401&amp;sz=77&amp;hl=en&amp;start=27&amp;tbnid=Uv9CTo-qUY_PlM:&amp;tbnh=87&amp;tbnw=124&amp;prev=/images?q=quilt+frames&amp;start=20&amp;gbv=2&amp;ndsp=20&amp;hl=en&amp;sa=N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www.rquiltingframes.com/images/quilframe1.jpg&amp;imgrefurl=http://www.rquiltingframes.com/&amp;usg=__IIAF5q1v20EEMn9fPm5SsHC8LPY=&amp;h=321&amp;w=460&amp;sz=27&amp;hl=en&amp;start=60&amp;tbnid=DqdFe6y_CVvvOM:&amp;tbnh=89&amp;tbnw=128&amp;prev=/images?q=quilt+frames&amp;start=40&amp;gbv=2&amp;ndsp=20&amp;hl=en&amp;sa=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mentorscenter.com/quilt_lab/assets/int-1-lg-2.jpg&amp;imgrefurl=http://www.mentorscenter.com/quilt_lab/sub_pages/quilt_frames.htm&amp;usg=__4qUIQh2RxQXHH8Zj83bcLFQcJoQ=&amp;h=500&amp;w=500&amp;sz=18&amp;hl=en&amp;start=62&amp;tbnid=RttB1XBn5k6QJM:&amp;tbnh=130&amp;tbnw=130&amp;prev=/images?q=quilt+frames&amp;start=60&amp;gbv=2&amp;ndsp=20&amp;hl=en&amp;sa=N" TargetMode="External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littlemotors.org/antifreeze/archives/images/wrapped.jpg&amp;imgrefurl=http://www.littlemotors.org/antifreeze/archives/2004/10/&amp;usg=__PIVvvGqmRtkS7zPPc2_aUhRfST0=&amp;h=375&amp;w=500&amp;sz=50&amp;hl=en&amp;start=1&amp;tbnid=d8aSAa2VlHbdJM:&amp;tbnh=98&amp;tbnw=130&amp;prev=/images?q=wrapped&amp;gbv=2&amp;hl=e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cardsunlimited.com/largeimage/WrappedChocs.jpg&amp;imgrefurl=http://www.cardsunlimited.com/bulkview.php?id=wrapped_chocolates&amp;usg=__Dpip8shX4QAfPdMD-e-5yUCklKo=&amp;h=383&amp;w=383&amp;sz=66&amp;hl=en&amp;start=5&amp;tbnid=XPYZKlwLyzbT4M:&amp;tbnh=123&amp;tbnw=123&amp;prev=/images?q=wrapped&amp;gbv=2&amp;hl=e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hollys-handcrafts.com/images/wrapped_basket_lg.jpg&amp;imgrefurl=http://hollys-handcrafts.com/wrapped_basket.htm&amp;usg=__g0wvR9BVsIIjBVNJ86DUXNXBCrQ=&amp;h=500&amp;w=375&amp;sz=45&amp;hl=en&amp;start=6&amp;tbnid=dElHB_fJp4hiDM:&amp;tbnh=130&amp;tbnw=98&amp;prev=/images?q=wrapped&amp;gbv=2&amp;hl=en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m/imgres?imgurl=http://www.artshole.co.uk/arts/artists/other/Nadine%2520Bowler/A6-Wrapped-Spiral-2004-H25.jpg&amp;imgrefurl=http://www.artshole.co.uk/nadinewarden.htm&amp;usg=__3_O43JCM1x4FoC6gryySttQ8h2E=&amp;h=600&amp;w=896&amp;sz=52&amp;hl=en&amp;start=14&amp;tbnid=PXsq877uwn1qGM:&amp;tbnh=98&amp;tbnw=146&amp;prev=/images?q=wrapped&amp;gbv=2&amp;hl=en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images.google.com/imgres?imgurl=http://www.old-picture.com/indians/pictures/Navaho-Wrapped-in-Blanket.jpg&amp;imgrefurl=http://www.old-picture.com/indians/Navaho-Wrapped-in-Blanket.htm&amp;usg=__JI-fsXSV-wVaTTHUNFRLtqzH5G0=&amp;h=831&amp;w=600&amp;sz=51&amp;hl=en&amp;start=20&amp;tbnid=nityvd3EmjeqZM:&amp;tbnh=144&amp;tbnw=104&amp;prev=/images?q=wrapped&amp;gbv=2&amp;hl=en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images.google.com/imgres?imgurl=http://pdudley.home.isp-direct.com/Canoe%2520shipping/seat%2520backs%2520wrapped.JPG&amp;imgrefurl=http://pdudley.home.isp-direct.com/&amp;usg=__c1aNTrkFO_1O3L4YEov48oRttnY=&amp;h=1932&amp;w=2576&amp;sz=837&amp;hl=en&amp;start=28&amp;tbnid=XL_11pKFpq2cQM:&amp;tbnh=113&amp;tbnw=150&amp;prev=/images?q=wrapped&amp;start=20&amp;gbv=2&amp;ndsp=20&amp;hl=en&amp;sa=N" TargetMode="External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nearseanaturals.com/thumbs/oc-cotton-stuffing-bulk.jpg&amp;imgrefurl=http://www.nearseanaturals.com/item.php?id=2041&amp;usg=__GwhGMT19E9xiiRu_MvJ5kBjNbKU=&amp;h=329&amp;w=456&amp;sz=16&amp;hl=en&amp;start=26&amp;tbnid=gJDTNJnJPzf0WM:&amp;tbnh=92&amp;tbnw=128&amp;prev=/images?q=stuffing&amp;start=20&amp;gbv=2&amp;ndsp=20&amp;hl=en&amp;sa=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biscuitshouse.typepad.com/biscuits_house/images/2007/06/03/stuffing.jpg&amp;imgrefurl=http://biscuitshouse.typepad.com/biscuits_house/amigurumi/&amp;usg=__Yhu8q0i5c5IpbE6izMM2a_dtGro=&amp;h=290&amp;w=400&amp;sz=36&amp;hl=en&amp;start=44&amp;tbnid=0ENJut9PdX4yyM:&amp;tbnh=90&amp;tbnw=124&amp;prev=/images?q=stuffing&amp;start=40&amp;gbv=2&amp;ndsp=20&amp;hl=en&amp;sa=N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www.techspedia.com/wp-content/plugins/wp-o-matic/cache/c20b8_beaver-stuffing-kit.jpg&amp;imgrefurl=http://www.techspedia.com/2008/06/15/last-minute-gadget-gifts-for-rich-dads-fun-dads-and-deadbeat-dads-thank-giz-its-friday/&amp;usg=__v8V-8w1tvqb8fBDRbECurI7NkM4=&amp;h=450&amp;w=450&amp;sz=40&amp;hl=en&amp;start=85&amp;tbnid=GO8xjShek3GTTM:&amp;tbnh=127&amp;tbnw=127&amp;prev=/images?q=stuffing&amp;start=80&amp;gbv=2&amp;ndsp=20&amp;hl=en&amp;sa=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nerdapproved.com/wp-content/uploads/2008/06/beaver-stuffing-kit-2.jpg&amp;imgrefurl=http://nerdapproved.com/toys/beaver-stuffing-kit-satsify-your-urges/&amp;usg=__Q4zKkjxs3gjd-am3xegnqch_KVw=&amp;h=450&amp;w=450&amp;sz=38&amp;hl=en&amp;start=89&amp;tbnid=ltF6mVMFB_y5sM:&amp;tbnh=127&amp;tbnw=127&amp;prev=/images?q=stuffing&amp;start=80&amp;gbv=2&amp;ndsp=20&amp;hl=en&amp;sa=N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www.polybeads.co.uk/ebayphotos/stuffing3a.jpg&amp;imgrefurl=http://cgi.ebay.co.uk/Toy-Stuffing-Super-Soft-Polyester-Fibre-Filling-2-KILOs_W0QQitemZ120345236974QQihZ002QQcategoryZ75576QQcmdZViewItem&amp;usg=__PGrk0pb8VT9CCJ0FoOZj46W0C0o=&amp;h=300&amp;w=400&amp;sz=8&amp;hl=en&amp;start=227&amp;tbnid=55XeELwXloMSEM:&amp;tbnh=93&amp;tbnw=124&amp;prev=/images?q=stuffing&amp;start=220&amp;gbv=2&amp;ndsp=20&amp;hl=en&amp;sa=N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www.alliedkenco.com/catalog/images/TUBE_STUFFING_LARGE-22-32.jpg&amp;imgrefurl=http://www.alliedkenco.com/catalog/index.php?cPath=22_112&amp;usg=__vgqWmFusWoj7_jUb7p_uGzIXX4Y=&amp;h=400&amp;w=400&amp;sz=58&amp;hl=en&amp;start=229&amp;tbnid=uJnzi23n3HH7hM:&amp;tbnh=124&amp;tbnw=124&amp;prev=/images?q=stuffing&amp;start=220&amp;gbv=2&amp;ndsp=20&amp;hl=en&amp;sa=N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legacytrunks.com/images/Circa%25201850s%2520Gold%2520Rush%2520Stagecoach%2520Trunk.jpg&amp;imgrefurl=http://www.legacytrunks.com/trunk_history_information.htm&amp;usg=__tDk8EuX795EFWybR2SA6qrqwsnY=&amp;h=378&amp;w=504&amp;sz=38&amp;hl=en&amp;start=2&amp;tbnid=T99TGCGZyKj09M:&amp;tbnh=98&amp;tbnw=130&amp;prev=/images?q=trunk&amp;gbv=2&amp;hl=en&amp;sa=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ages.google.com/imgres?imgurl=http://shopping.ascase.com/productcart/pc/catalog/trunk-black_650_1160_general.jpg&amp;imgrefurl=http://shopping.ascase.com/productcart/pc/configurePrd.asp?idcategory=8&amp;idproduct=232&amp;usg=__-2lJzODqaWWsdmbAkxlxHco8nco=&amp;h=340&amp;w=350&amp;sz=15&amp;hl=en&amp;start=8&amp;tbnid=jVFw8ptCEgN14M:&amp;tbnh=117&amp;tbnw=120&amp;prev=/images?q=trunk&amp;gbv=2&amp;hl=en&amp;sa=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s.google.com/imgres?imgurl=http://www.wilshiregardenmarket.com/garden_accents/images/GD_Copper_Steamer_Trunk_mailbox-255.gif&amp;imgrefurl=http://www.wilshiregardenmarket.com/garden_accents/copper_steamer_trunk_wall_mount_mailbox.htm&amp;usg=__JLq5YoN7cVJAAWHVP2AXwGZ0ODg=&amp;h=300&amp;w=300&amp;sz=54&amp;hl=en&amp;start=9&amp;tbnid=Xu0NOAR6oNf2eM:&amp;tbnh=116&amp;tbnw=116&amp;prev=/images?q=trunk&amp;gbv=2&amp;hl=en&amp;sa=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images.google.com/imgres?imgurl=http://themetrunks.com/miniatures/images/Gentlemens-Trunk.jpg&amp;imgrefurl=http://themetrunks.com/miniatures/index.php?main_page=products_all&amp;disp_order=1&amp;page=2&amp;usg=__cct6z9a2eU1CC9M5SIauywTtHtE=&amp;h=375&amp;w=340&amp;sz=18&amp;hl=en&amp;start=13&amp;tbnid=k-6hCRJbOvkbRM:&amp;tbnh=122&amp;tbnw=111&amp;prev=/images?q=trunk&amp;gbv=2&amp;hl=en&amp;sa=G" TargetMode="External"/><Relationship Id="rId10" Type="http://schemas.openxmlformats.org/officeDocument/2006/relationships/image" Target="../media/image31.jpeg"/><Relationship Id="rId11" Type="http://schemas.openxmlformats.org/officeDocument/2006/relationships/hyperlink" Target="http://images.google.com/imgres?imgurl=http://themetrunks.com/miniatures/images/Steamer-Trunk.jpg&amp;imgrefurl=http://themetrunks.com/miniatures/index.php?main_page=index&amp;cPath=3&amp;usg=__6pL7UUYrD02ic-UEaxtIuOe26cM=&amp;h=288&amp;w=340&amp;sz=7&amp;hl=en&amp;start=14&amp;tbnid=ceCIgXljA1eCVM:&amp;tbnh=101&amp;tbnw=119&amp;prev=/images?q=trunk&amp;gbv=2&amp;hl=en&amp;sa=G" TargetMode="External"/><Relationship Id="rId12" Type="http://schemas.openxmlformats.org/officeDocument/2006/relationships/image" Target="../media/image32.jpeg"/><Relationship Id="rId13" Type="http://schemas.openxmlformats.org/officeDocument/2006/relationships/hyperlink" Target="http://images.google.com/imgres?imgurl=http://hypebeast.com/image/2008/01/pinel-pinel-air-jordan-sneaker-trunk-1.jpg&amp;imgrefurl=http://hypebeast.com/2008/01/pinelpinel-air-jordan-sneaker-trunk/&amp;usg=__KuGmfSwAxvij8-OzaPsLIOp9OMQ=&amp;h=597&amp;w=670&amp;sz=144&amp;hl=en&amp;start=59&amp;tbnid=FUAiDg9jTpJ3vM:&amp;tbnh=123&amp;tbnw=138&amp;prev=/images?q=trunk&amp;start=40&amp;gbv=2&amp;ndsp=20&amp;hl=en&amp;sa=N" TargetMode="External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eb.it.ubc.ca/blogs/it/wp-content/uploads/google_unpack1.jpg&amp;imgrefurl=http://web.it.ubc.ca/blogs/it/?p=46&amp;usg=__UqGA0ZXC7Z3PwmO4lc-8M4VOo_0=&amp;h=450&amp;w=450&amp;sz=321&amp;hl=en&amp;start=13&amp;tbnid=Vp4AVkEGs2ilpM:&amp;tbnh=127&amp;tbnw=127&amp;prev=/images?q=unpack&amp;gbv=2&amp;hl=en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thegiantgameco.com/golf_assembly_files/unpack.jpg&amp;imgrefurl=http://thegiantgameco.com/golf_assembly.html&amp;usg=__tznfbXDSa15xmIFkRYGj11aLH3s=&amp;h=220&amp;w=157&amp;sz=5&amp;hl=en&amp;start=4&amp;tbnid=vHL6VJKjyIIdBM:&amp;tbnh=107&amp;tbnw=76&amp;prev=/images?q=unpack&amp;gbv=2&amp;hl=en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images.google.com/imgres?imgurl=http://cognitiveharmony.net/countytrip/5-19/16unpack.jpg&amp;imgrefurl=http://thecountytrip.blogspot.com/&amp;usg=__cblGv56btCf7NrbcjSg_QCzeZu4=&amp;h=480&amp;w=640&amp;sz=54&amp;hl=en&amp;start=31&amp;tbnid=wd-L3tzyPd6qLM:&amp;tbnh=103&amp;tbnw=137&amp;prev=/images?q=unpack&amp;start=20&amp;gbv=2&amp;ndsp=20&amp;hl=en&amp;sa=N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images.google.com/imgres?imgurl=http://www.lunchbucket.org/images/58gal%2520Oceanic/Deltec_AP600/Setup/deltec_unpack_1.JPG&amp;imgrefurl=http://www.lunchbucket.org/deltec_ap600.htm&amp;usg=__GDxOGFLb1p6e8hjT5-zqfqum2sA=&amp;h=480&amp;w=360&amp;sz=27&amp;hl=en&amp;start=33&amp;tbnid=_g7-Qd0_LGPwEM:&amp;tbnh=129&amp;tbnw=97&amp;prev=/images?q=unpack&amp;start=20&amp;gbv=2&amp;ndsp=20&amp;hl=en&amp;sa=N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images.google.com/imgres?imgurl=http://www.campwinnebago.com/pix2006/a/unpack3.jpg&amp;imgrefurl=http://www.campwinnebago.com/pix2006/pix.html&amp;usg=__NtugXiIqs8kLGS0duxc1svP6JYs=&amp;h=408&amp;w=614&amp;sz=74&amp;hl=en&amp;start=78&amp;tbnid=aR_J638TF3_JmM:&amp;tbnh=90&amp;tbnw=136&amp;prev=/images?q=unpack&amp;start=60&amp;gbv=2&amp;ndsp=20&amp;hl=en&amp;sa=N" TargetMode="External"/><Relationship Id="rId12" Type="http://schemas.openxmlformats.org/officeDocument/2006/relationships/image" Target="../media/image38.jpeg"/><Relationship Id="rId13" Type="http://schemas.openxmlformats.org/officeDocument/2006/relationships/hyperlink" Target="http://images.google.com/imgres?imgurl=http://www.kaeldra.com/adventure/kirkland/unpack-bedroom.jpg&amp;imgrefurl=http://www.kaeldra.com/blogarchives/2008_06_01_archive.html&amp;usg=__NvpUuMzIBPriX156rzQtopGQo_k=&amp;h=455&amp;w=600&amp;sz=97&amp;hl=en&amp;start=85&amp;tbnid=ztkXKko0xTNX9M:&amp;tbnh=102&amp;tbnw=135&amp;prev=/images?q=unpack&amp;start=80&amp;gbv=2&amp;ndsp=20&amp;hl=en&amp;sa=N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karistiansen.files.wordpress.com/2007/10/stack-of-blankets.jpg&amp;imgrefurl=http://karistiansen.wordpress.com/2007/10/&amp;usg=__WeNg5i-I7Tby5lnUUF6ueBcfcUY=&amp;h=318&amp;w=367&amp;sz=10&amp;hl=en&amp;start=3&amp;tbnid=6Gf4awLPmeiKKM:&amp;tbnh=106&amp;tbnw=122&amp;prev=/images?q=blankets&amp;gbv=2&amp;hl=en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google.com/imgres?imgurl=http://batesmillcoverlets.com/wp-content/uploads/2008/03/oxford_blankets.jpg&amp;imgrefurl=http://batesmillcoverlets.com/category/blankets-coverlets/&amp;usg=__h_6e3ou3oGhnTmrnsVa08RatHZk=&amp;h=900&amp;w=900&amp;sz=171&amp;hl=en&amp;start=4&amp;tbnid=SxxKSXJIvYnPlM:&amp;tbnh=146&amp;tbnw=146&amp;prev=/images?q=blankets&amp;gbv=2&amp;hl=en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images.google.com/imgres?imgurl=http://www.embroideryetcetera.com/images/embroidery/blanks/baby-blankets.jpg&amp;imgrefurl=http://www.embroideryetcetera.com/embroidery-blanks.htm&amp;usg=__vEaLuFNnXfpDBYkIvTCpJwdWQzQ=&amp;h=577&amp;w=883&amp;sz=42&amp;hl=en&amp;start=1&amp;tbnid=u8zz4vwszxZ6FM:&amp;tbnh=95&amp;tbnw=146&amp;prev=/images?q=blankets&amp;gbv=2&amp;hl=en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images.google.com/imgres?imgurl=http://www.kashwere.biz/Kashwere-Blankets.JPG&amp;imgrefurl=http://www.kashwere.biz/Kashwere-Blankets.html&amp;usg=__kRBbnwzBHeLIJXWBdZdjuVpcEBA=&amp;h=328&amp;w=555&amp;sz=33&amp;hl=en&amp;start=17&amp;tbnid=ZwvA-j6Ly3NTCM:&amp;tbnh=79&amp;tbnw=133&amp;prev=/images?q=blankets&amp;gbv=2&amp;hl=en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images.google.com/imgres?imgurl=http://www.babyafghans.com/baby_blankets_blue_white.jpg&amp;imgrefurl=http://www.babyafghans.com/blanket_sets_currently_available.htm&amp;usg=__NYQ4dIZPN8TUFTshLCE-a08mYZo=&amp;h=326&amp;w=400&amp;sz=46&amp;hl=en&amp;start=53&amp;tbnid=husxFG7vA8Db0M:&amp;tbnh=101&amp;tbnw=124&amp;prev=/images?q=blankets&amp;start=40&amp;gbv=2&amp;ndsp=20&amp;hl=en&amp;sa=N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com/imgres?imgurl=http://www.healthgoods.com/shopping/images/Organic_Cotton_Wool_Blankets.jpg&amp;imgrefurl=http://www.healthgoods.com/shopping/Bed_Bath_Products/Organic_Cotton_Wool_Blankets_Comforters.asp&amp;usg=__QZApOJ82dl0dAG2yKrK9eSAQYAE=&amp;h=282&amp;w=402&amp;sz=29&amp;hl=en&amp;start=75&amp;tbnid=vyeiRsM6QBOfSM:&amp;tbnh=87&amp;tbnw=124&amp;prev=/images?q=blankets&amp;start=60&amp;gbv=2&amp;ndsp=20&amp;hl=en&amp;sa=N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thecraftyunicorn.com/db1/00079/thecraftyunicorn.com/_uimages/DoublePlume-stitched.JPG&amp;imgrefurl=http://thecraftyunicorn.com/_wsn/page2.html&amp;usg=__DEwpxXa7SRHlx1YVln9FVgCF2Y8=&amp;h=336&amp;w=443&amp;sz=78&amp;hl=en&amp;start=14&amp;tbnid=8yrkAqkilsQpzM:&amp;tbnh=96&amp;tbnw=127&amp;prev=/images?q=stitched&amp;gbv=2&amp;hl=en" TargetMode="External"/><Relationship Id="rId4" Type="http://schemas.openxmlformats.org/officeDocument/2006/relationships/image" Target="../media/image46.jpeg"/><Relationship Id="rId5" Type="http://schemas.openxmlformats.org/officeDocument/2006/relationships/hyperlink" Target="http://images.google.com/imgres?imgurl=http://www.adsportscardsetc.com/ProductImages/supplies2007/AlbumBaseballStitched.jpg&amp;imgrefurl=http://www.adsportscardsetc.com/albumbaseballwhitestitchedultraprosportsbinder82020.aspx&amp;usg=__zznBOMJKtaObu9HLjQ-Dup4OOZc=&amp;h=300&amp;w=300&amp;sz=27&amp;hl=en&amp;start=5&amp;tbnid=xk_3EnvN6Wyi_M:&amp;tbnh=116&amp;tbnw=116&amp;prev=/images?q=stitched&amp;gbv=2&amp;hl=en" TargetMode="External"/><Relationship Id="rId6" Type="http://schemas.openxmlformats.org/officeDocument/2006/relationships/image" Target="../media/image47.jpeg"/><Relationship Id="rId7" Type="http://schemas.openxmlformats.org/officeDocument/2006/relationships/hyperlink" Target="http://images.google.com/imgres?imgurl=http://www.craftstylish.com/assets/uploads/2008/06/jsw19p3a_lg.jpg&amp;imgrefurl=http://www.craftstylish.com/item/3155/the-last-stitch-how-to-finish-your-hand-embroidery&amp;usg=__lcHPZTfKBlwdKYwl4kuhYu3F83I=&amp;h=368&amp;w=430&amp;sz=117&amp;hl=en&amp;start=52&amp;tbnid=PzIj0PIbZHWLjM:&amp;tbnh=108&amp;tbnw=126&amp;prev=/images?q=stitched&amp;start=40&amp;gbv=2&amp;ndsp=20&amp;hl=en&amp;sa=N" TargetMode="External"/><Relationship Id="rId8" Type="http://schemas.openxmlformats.org/officeDocument/2006/relationships/image" Target="../media/image48.jpeg"/><Relationship Id="rId9" Type="http://schemas.openxmlformats.org/officeDocument/2006/relationships/hyperlink" Target="http://images.google.com/imgres?imgurl=http://lafemmerose.files.wordpress.com/2008/06/mock-cathedral-stitched.jpg&amp;imgrefurl=http://lafemmerose.wordpress.com/2008/06/16/mock-cathedral-window/&amp;usg=__V8vi5OgXU4pJ4TDK05n7cWb12jg=&amp;h=1110&amp;w=1085&amp;sz=316&amp;hl=en&amp;start=67&amp;tbnid=f4Uoh-jg_aNDQM:&amp;tbnh=150&amp;tbnw=147&amp;prev=/images?q=stitched&amp;start=60&amp;gbv=2&amp;ndsp=20&amp;hl=en&amp;sa=N" TargetMode="External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antique-used-tools.com/CollinsHatchetCarpenter_4.jpg&amp;imgrefurl=http://www.antique-used-tools.com/collins.htm&amp;usg=__8pMV4txsQAGT1PP5UjlWazNU8Tw=&amp;h=295&amp;w=312&amp;sz=29&amp;hl=en&amp;start=20&amp;tbnid=ID1BvJjbIrza5M:&amp;tbnh=111&amp;tbnw=117&amp;prev=/images?q=hatchet&amp;gbv=2&amp;hl=en&amp;sa=G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d30034051.purehost.com/store/media/Tools/3HatchetHammer_full.gif&amp;imgrefurl=http://www.survivalsolutions.com/store/product71.html&amp;usg=__vSbDav8k89GZtuCjMdIkBj9BgJU=&amp;h=285&amp;w=380&amp;sz=31&amp;hl=en&amp;start=17&amp;tbnid=JD7Jc_u2vQ-q9M:&amp;tbnh=92&amp;tbnw=123&amp;prev=/images?q=hatchet&amp;gbv=2&amp;hl=en&amp;sa=G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delisto.com/image/portfolio/large/XtremeHatchet.jpg&amp;imgrefurl=http://www.delisto.com/portfolio.php&amp;usg=__gZqdv-HARnSqa2EHtblPhuj3vaA=&amp;h=612&amp;w=792&amp;sz=247&amp;hl=en&amp;start=18&amp;tbnid=i11zPHFPTCjEBM:&amp;tbnh=111&amp;tbnw=143&amp;prev=/images?q=hatchet&amp;gbv=2&amp;hl=en&amp;sa=G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images.google.com/imgres?imgurl=http://upload.wikimedia.org/wikipedia/commons/b/b2/Hatchet_firefighter.png&amp;imgrefurl=http://commons.wikimedia.org/wiki/Image:Hatchet_firefighter.png&amp;usg=__RJbIUuM-Ar1lfSubzZlS4p1s4Rw=&amp;h=436&amp;w=600&amp;sz=97&amp;hl=en&amp;start=29&amp;tbnid=0lxE7UxvnDZH6M:&amp;tbnh=98&amp;tbnw=135&amp;prev=/images?q=hatchet&amp;start=20&amp;gbv=2&amp;ndsp=20&amp;hl=en&amp;sa=N" TargetMode="External"/><Relationship Id="rId10" Type="http://schemas.openxmlformats.org/officeDocument/2006/relationships/image" Target="../media/image53.jpeg"/><Relationship Id="rId11" Type="http://schemas.openxmlformats.org/officeDocument/2006/relationships/hyperlink" Target="http://images.google.com/imgres?imgurl=http://www.paintedtools.com/images/store/hatchet-copy.jpg&amp;imgrefurl=http://www.paintedtools.com/default.asp?active_page_id=12&amp;usg=__u2M_zDYCJS6fQXtMQL0w82vKFE4=&amp;h=600&amp;w=400&amp;sz=57&amp;hl=en&amp;start=36&amp;tbnid=Xe1baAmDCg8ECM:&amp;tbnh=135&amp;tbnw=90&amp;prev=/images?q=hatchet&amp;start=20&amp;gbv=2&amp;ndsp=20&amp;hl=en&amp;sa=N" TargetMode="External"/><Relationship Id="rId12" Type="http://schemas.openxmlformats.org/officeDocument/2006/relationships/image" Target="../media/image54.jpeg"/><Relationship Id="rId13" Type="http://schemas.openxmlformats.org/officeDocument/2006/relationships/hyperlink" Target="http://images.google.com/imgres?imgurl=http://homepage.mac.com/zombiekiller/badmojo/images/odds/oe03_pauls_hatchet.jpg&amp;imgrefurl=http://homepage.mac.com/zombiekiller/badmojo/odds.html&amp;usg=__Z2pmqP5lFETiVuEk27Fic0f2vFI=&amp;h=600&amp;w=438&amp;sz=60&amp;hl=en&amp;start=54&amp;tbnid=asWcyRT5z-wsGM:&amp;tbnh=135&amp;tbnw=99&amp;prev=/images?q=hatchet&amp;start=40&amp;gbv=2&amp;ndsp=20&amp;hl=en&amp;sa=N" TargetMode="External"/><Relationship Id="rId14" Type="http://schemas.openxmlformats.org/officeDocument/2006/relationships/image" Target="../media/image55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image" Target="../media/image3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97488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0" descr="Quilt Stor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2979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Word Family Word – cheer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____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_____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_ inside my pillow makes it s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____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____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trip, I opened my suitcase and ____ my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Word Family Word – boy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T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ultiple-Meaning Word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7cd"/>
                </a:solidFill>
                <a:latin typeface="Verdana"/>
              </a:rPr>
              <a:t>Words that have more than one meaning are multiple-meaning wo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this tree is bumpy and br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ut bags in 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our c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squirted from the elephant’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 put on hi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went for a sw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5" descr="Student Pages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nn made an a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Ann made an ap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o you lik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o you like pi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br>
              <a:rPr sz="4000"/>
            </a:br>
            <a:r>
              <a:rPr b="0" lang="en-US" sz="2800" spc="-1" strike="noStrike">
                <a:solidFill>
                  <a:srgbClr val="00b7a5"/>
                </a:solidFill>
                <a:latin typeface="Verdana"/>
              </a:rPr>
              <a:t>Think of words that tells how these fruits taste, look, feel, smell, and sound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05120" y="2895480"/>
          <a:ext cx="5562360" cy="2590920"/>
        </p:xfrm>
        <a:graphic>
          <a:graphicData uri="http://schemas.openxmlformats.org/drawingml/2006/table">
            <a:tbl>
              <a:tblPr/>
              <a:tblGrid>
                <a:gridCol w="2781360"/>
                <a:gridCol w="2781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Grap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with Accuracy and Appropriate 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 quilt that was made for a special birthday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371600" y="2286000"/>
          <a:ext cx="6095880" cy="3309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paragraph explaining how a tree's trunk chang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 tim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quilt.  It was stitched by the people of Brewster.  The pictures on the quilt represent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quil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  It was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titched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y the people of Brewster.  The pictures on the quilt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represen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838080" y="1447920"/>
          <a:ext cx="3353040" cy="484668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4572000" y="1676520"/>
          <a:ext cx="3657600" cy="41907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one made that apple pie on the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ridle might be somewhere in the s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d you see my friend cry when he took a tum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fly kites high in the sky when we go to the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beautiful purple bike is so nice to r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did not like the sight of a bee right there in the front y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aking Memorie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hanging with the Time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34 - 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om has a bunndle of book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om has a bundle of book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 am able to write my n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I am able to write my na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297cd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Adjectives</a:t>
            </a:r>
            <a:br>
              <a:rPr sz="4000"/>
            </a:br>
            <a:r>
              <a:rPr b="0" i="1" lang="en-US" sz="2800" spc="-1" strike="noStrike">
                <a:solidFill>
                  <a:srgbClr val="00b7a5"/>
                </a:solidFill>
                <a:latin typeface="Arial Narrow"/>
              </a:rPr>
              <a:t>Choose adjectives that describe each of the sense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68580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Fe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m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 to 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selections that explain how familiar things can help us deal with changes.  Tomorrow we will learn more about how things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st different landmar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your cit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tough changes easier.  One way is to preserve familiar things.  Why are familiar things valuabl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hanges easier.  One way is to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preser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amiliar things.  Why are familiar thing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valu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world is changing all the time.  Changing is often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ference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838080" y="1447920"/>
          <a:ext cx="3353040" cy="484668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4572000" y="1676520"/>
          <a:ext cx="3657600" cy="41907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Syllables: Consonant + l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by slept in a simple little crad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as able to pick the apple from the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ill sprinkle pepper on top of my noodle d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to snuggle and giggle with Mom and 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00b7a5"/>
                </a:solidFill>
                <a:latin typeface="Verdana"/>
              </a:rPr>
              <a:t>wrapped, unpacked, stuffing, blankets, quilt, pretended, trunks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you can sew from square of fabr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fill a quilt with this to make it so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eans the same as made belie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goes with chests and cr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what you did when you returned home from a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that has been done to a gi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help keep you warm a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590920" y="1447920"/>
          <a:ext cx="4038480" cy="4190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an jim play a bu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Can Jim play a bug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e show made Me gi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he show made me gigg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don’t know the meaning, spelling, or pronunciation of a word, look it up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are looking for information about a topic, I sometimes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encyclopedi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want to use more interesting words in your writing, look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hesaur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or different words that have similar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want to see maps,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tla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also use the computer as a reference source.  You can use several reference sources o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CD-R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uch as encyclopedia, atlas, and thesaur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use the computer to search the Internet for information about a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7a5"/>
                </a:solidFill>
                <a:latin typeface="Verdana"/>
              </a:rPr>
              <a:t>Wrap Up Your Week!</a:t>
            </a:r>
            <a:endParaRPr b="0" lang="en-US" sz="4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:  Our Changing Wor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s changing all the time.  Changing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lass that mak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special quilt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6" name="Picture 21" descr="Quilt Story"/>
          <p:cNvPicPr/>
          <p:nvPr/>
        </p:nvPicPr>
        <p:blipFill>
          <a:blip r:embed="rId1"/>
          <a:stretch/>
        </p:blipFill>
        <p:spPr>
          <a:xfrm>
            <a:off x="8001000" y="5715000"/>
            <a:ext cx="53640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09680" y="2327040"/>
            <a:ext cx="65534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 – 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keep it protected from anything that would cause it to be ruined or spoil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photo by putting it in a fr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od by freez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 – re – s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o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 means to stand for it or symbolize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person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nother person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lag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ou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mayo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e people of a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 – u - a - 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worth something or is important to you, it i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friends are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o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mother may have given you a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iece of jewel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51fe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studied two-syllable words like this already.  What do you know about reading two-syllables wor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’ll learn about two-syllable words that end with a consonant and 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n / 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blend two-syllable words with consonant + le by dividing them into smaller parts.  We usually divide the word so the last consonant plus le make up the last syllable of th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g / 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g / 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 / 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d / 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rin / 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a / 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 / 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ar / 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r / 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 / 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Mak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a, e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g, j, l, m, n, p, s, 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f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in a consonant plu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hose three letters usually make up the last syllable of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“A Walk in the Deser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are our town and a desert alike and how are they differ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election contains many different id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riter can organize these ideas in various w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readers pay attention to the way ideas are organ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way to organize ideas is to tell how things are alike and diffe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s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to tell how things are a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li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to tell how things are diffe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Story Structur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 is how the write fits all the parts of the stor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organize story ides by contrasting how things are different or comparing how things are a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7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8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9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0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1"/>
              </a:rPr>
              <a:t>Fill-in-the Blank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5" descr="Student Pages"/>
          <p:cNvPicPr/>
          <p:nvPr/>
        </p:nvPicPr>
        <p:blipFill>
          <a:blip r:embed="rId1"/>
          <a:stretch/>
        </p:blipFill>
        <p:spPr>
          <a:xfrm>
            <a:off x="533520" y="577800"/>
            <a:ext cx="80769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jill rod a purple bik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Jill rode a purple bik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rick put tap on his ank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Rick put tape on his ank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y family loves hot corn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describes the way the cornbread tastes and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yellow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cold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green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smooth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delicious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delic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ds that end with conson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morrow we will read about something that makes a girl feel like she is home—no matter where she 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838080" y="1447920"/>
          <a:ext cx="3353040" cy="484668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4572000" y="1676520"/>
          <a:ext cx="3657600" cy="41907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523880" y="23623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Rectangle 29"/>
          <p:cNvSpPr/>
          <p:nvPr/>
        </p:nvSpPr>
        <p:spPr>
          <a:xfrm>
            <a:off x="1752480" y="3276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Write about wh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friendships are valu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warm, old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arm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o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difficult to do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can take a lot of wear and tear without breaking or being damaged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migh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decide what kind of pet you w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Jeans are made from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mate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ome me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ch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 – cen – tra - 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are thinking about one thing very carefully, th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you are trying to solve a math problem and are not paying attention to anything else, you are in deep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all you will do for a morning is clean your room, your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is on cl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, you wrinkle your forehead and draw your eyebrows together, usually when you are worried, angry, or thin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you try to think of an answer to a hard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person who is worried about a lost pet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smile is the opposite of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is word because you know how to read two-syllable words that end with consonant + 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to a two-syllable word that ends with consonant + le, look for the two syll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d them and then read th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400"/>
            </a:br>
            <a:r>
              <a:rPr b="1" lang="en-US" sz="2800" spc="-1" strike="noStrike">
                <a:solidFill>
                  <a:srgbClr val="b50069"/>
                </a:solidFill>
                <a:latin typeface="Verdana"/>
              </a:rPr>
              <a:t>Find words with consonant + le in “My Teddy Bear.”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05740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590920" y="1447920"/>
          <a:ext cx="4038480" cy="4190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4114800" y="1523880"/>
          <a:ext cx="4232160" cy="4542120"/>
        </p:xfrm>
        <a:graphic>
          <a:graphicData uri="http://schemas.openxmlformats.org/drawingml/2006/table">
            <a:tbl>
              <a:tblPr/>
              <a:tblGrid>
                <a:gridCol w="42321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 bub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 spar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 </a:t>
                      </a:r>
                      <a:r>
                        <a:rPr b="0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and I giggle when we tickle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ars sparkle and twinkle at 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ble is made of purple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title of the song she played on her bu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bed covering made by stitching together layers of fab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wrapp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by winding or fo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make-belie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stuff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oft material used to fill an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runk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urdy boxes in which objects are 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(next wor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Star%2520and%2520Plume%2520quilt%2520cro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00200"/>
            <a:ext cx="1727280" cy="23623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Nf11qui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2270160" cy="2286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Twilight%2520Quilt%252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86400" y="1676520"/>
            <a:ext cx="2081160" cy="2209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3" descr="quil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524480"/>
            <a:ext cx="2438280" cy="1800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5" descr="TreeQuilt-cmy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6120" y="4267080"/>
            <a:ext cx="1258920" cy="2048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500px-Crazy_Quilt_(solitaire)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78400" y="4114800"/>
            <a:ext cx="21704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ing fr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quilt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057400" cy="1862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mnF%3DMattNanHQUIL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1981080"/>
            <a:ext cx="3047760" cy="1922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BabySiz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540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qframefron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749840"/>
            <a:ext cx="1905120" cy="1336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4" descr="quilframe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15000" y="4197240"/>
            <a:ext cx="2743200" cy="1908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6" descr="int-1-lg-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324480" y="19810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wrapp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wra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4419720"/>
            <a:ext cx="2438640" cy="1838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WrappedChoc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1600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wrapped_basket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8720" y="1600200"/>
            <a:ext cx="2068560" cy="2743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4" descr="A6-Wrapped-Spiral-2004-H2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476600"/>
            <a:ext cx="2666880" cy="1791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Navaho-Wrapped-in-Blanke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600200"/>
            <a:ext cx="2036880" cy="2819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seat%2520backs%2520wrapped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172200" y="4549680"/>
            <a:ext cx="22669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uff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oc-cotton-stuffing-bul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514600" cy="1808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stuff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1981080"/>
            <a:ext cx="2438640" cy="1770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c20b8_beaver-stuffing-ki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38862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3" descr="beaver-stuffing-kit-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48520" y="3886200"/>
            <a:ext cx="2200320" cy="2200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5" descr="stuffing3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19920" y="198108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7" descr="TUBE_STUFFING_LARGE-22-3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392436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start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trunk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Circa%25201850s%2520Gold%2520Rush%2520Stagecoach%2520Trun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81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trunk-black_650_1160_gener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1981080"/>
            <a:ext cx="2057400" cy="1752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GD_Copper_Steamer_Trunk_mailbox-25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9810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3" descr="Gentlemens-Trunk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886200"/>
            <a:ext cx="2027160" cy="22287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5" descr="Steamer-Trun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3886200"/>
            <a:ext cx="2590920" cy="22003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pinel-pinel-air-jordan-sneaker-trunk-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4002120"/>
            <a:ext cx="23814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unpack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google_unpac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657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unpa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1676520"/>
            <a:ext cx="1298520" cy="1828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16unpa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1676520"/>
            <a:ext cx="2438280" cy="1833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deltec_unpack_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962520"/>
            <a:ext cx="1782720" cy="2371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5" descr="unpack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638680" y="1676520"/>
            <a:ext cx="2819520" cy="1865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7" descr="unpack-bedroom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91320" y="4343400"/>
            <a:ext cx="26575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blanket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stack-of-blanke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672000"/>
            <a:ext cx="3048120" cy="26478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oxford_blanke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505320"/>
            <a:ext cx="2590920" cy="28191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1" descr="baby-blanke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2670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3" descr="Kashwere-Blanke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1600200"/>
            <a:ext cx="2971800" cy="17654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5" descr="baby_blankets_blue_whit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1600200"/>
            <a:ext cx="2210040" cy="1800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Organic_Cotton_Wool_Blanket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1600200"/>
            <a:ext cx="2324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itched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DoublePlume-stitch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76520"/>
            <a:ext cx="4038480" cy="3051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AlbumBaseballStitch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4876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3" descr="jsw19p3a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888080"/>
            <a:ext cx="1676520" cy="1436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mock-cathedral-stitche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7080" y="2590920"/>
            <a:ext cx="3657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hatche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685800" y="175212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CollinsHatchetCarpenter_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752480"/>
            <a:ext cx="2286000" cy="2168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3HatchetHammer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752480"/>
            <a:ext cx="2466720" cy="1844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XtremeHatche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114800"/>
            <a:ext cx="2743200" cy="2128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3" descr="Hatchet_firefight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038480"/>
            <a:ext cx="1596960" cy="2200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5" descr="hatchet-co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7240" y="3733920"/>
            <a:ext cx="1670040" cy="2504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oe03_pauls_hatch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81280" y="175248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patchwork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4952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hand%2520made%2520patchwork%2520quilts_585"/>
          <p:cNvPicPr/>
          <p:nvPr/>
        </p:nvPicPr>
        <p:blipFill>
          <a:blip r:embed="rId3"/>
          <a:stretch/>
        </p:blipFill>
        <p:spPr>
          <a:xfrm>
            <a:off x="685800" y="14479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chenille-patchwork"/>
          <p:cNvPicPr/>
          <p:nvPr/>
        </p:nvPicPr>
        <p:blipFill>
          <a:blip r:embed="rId4"/>
          <a:stretch/>
        </p:blipFill>
        <p:spPr>
          <a:xfrm>
            <a:off x="3505320" y="1447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Patchwork%2520Quilt_990"/>
          <p:cNvPicPr/>
          <p:nvPr/>
        </p:nvPicPr>
        <p:blipFill>
          <a:blip r:embed="rId5"/>
          <a:stretch/>
        </p:blipFill>
        <p:spPr>
          <a:xfrm>
            <a:off x="5867280" y="1447920"/>
            <a:ext cx="2571840" cy="2101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blue_and_green_patchwork"/>
          <p:cNvPicPr/>
          <p:nvPr/>
        </p:nvPicPr>
        <p:blipFill>
          <a:blip r:embed="rId6"/>
          <a:stretch/>
        </p:blipFill>
        <p:spPr>
          <a:xfrm>
            <a:off x="2590920" y="4114800"/>
            <a:ext cx="1676160" cy="1482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5" descr="top%2520hooded%2520patchwork%2520t%2520dye%252074%2520500"/>
          <p:cNvPicPr/>
          <p:nvPr/>
        </p:nvPicPr>
        <p:blipFill>
          <a:blip r:embed="rId7"/>
          <a:stretch/>
        </p:blipFill>
        <p:spPr>
          <a:xfrm>
            <a:off x="6703920" y="3733920"/>
            <a:ext cx="1716120" cy="2647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7" descr="blazer-patchwork-01a"/>
          <p:cNvPicPr/>
          <p:nvPr/>
        </p:nvPicPr>
        <p:blipFill>
          <a:blip r:embed="rId8"/>
          <a:stretch/>
        </p:blipFill>
        <p:spPr>
          <a:xfrm>
            <a:off x="685800" y="4038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9" descr="quilted_patchwork_pillow_c"/>
          <p:cNvPicPr/>
          <p:nvPr/>
        </p:nvPicPr>
        <p:blipFill>
          <a:blip r:embed="rId9"/>
          <a:stretch/>
        </p:blipFill>
        <p:spPr>
          <a:xfrm>
            <a:off x="4419720" y="4114800"/>
            <a:ext cx="19810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ankets – coverings for beds used to keep sleepers w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packed – removed from a suitcase or other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tched – fastened together with sti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tchet – small ax with a short han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chwork – different pieces of cloth sewn toge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pictures of quilting fram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 Review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ten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ff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lank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pac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Student Pages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Strategy: Word Structur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’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them up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for context clues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you can get the meaning from word parts such as the base word and prefi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Word Family Word – born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371600" y="1981080"/>
          <a:ext cx="6172200" cy="251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te a puple grap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I ate a purple grap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id you blow a bu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id you blow a bubbl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other made a large qui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tells how the quilt l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n object that brings joy to all kinds of living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someth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cial you packed for a trip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able to help Kimi feel a little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1" name="Picture 21" descr="Quilt Story"/>
          <p:cNvPicPr/>
          <p:nvPr/>
        </p:nvPicPr>
        <p:blipFill>
          <a:blip r:embed="rId1"/>
          <a:stretch/>
        </p:blipFill>
        <p:spPr>
          <a:xfrm>
            <a:off x="8077320" y="5715000"/>
            <a:ext cx="53640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o help Kimi feel a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itt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4" name="Picture 9" descr="Quilt Story"/>
          <p:cNvPicPr/>
          <p:nvPr/>
        </p:nvPicPr>
        <p:blipFill>
          <a:blip r:embed="rId1"/>
          <a:stretch/>
        </p:blipFill>
        <p:spPr>
          <a:xfrm>
            <a:off x="8077320" y="5715000"/>
            <a:ext cx="53640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s with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ple-mean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 – la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the country in which you were  born or where you feel you be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ay be the country you remember living in as a chi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eople who were born or raised in France call it thei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 - tien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rson can wait for something or put up with some trouble without complaining or getting ups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have to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waiting in 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takes time to learn how to play a musical instrument, so 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teaching younger brothers or sisters how to do new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7a5"/>
                </a:solidFill>
                <a:latin typeface="Times New Roman"/>
              </a:rPr>
              <a:t>Quilt Story </a:t>
            </a:r>
            <a:br>
              <a:rPr sz="3200"/>
            </a:br>
            <a:r>
              <a:rPr b="1" lang="en-US" sz="3200" spc="-1" strike="noStrike">
                <a:solidFill>
                  <a:srgbClr val="00b7a5"/>
                </a:solidFill>
                <a:latin typeface="Times New Roman"/>
              </a:rPr>
              <a:t>Word Family Word – year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371600" y="1295280"/>
          <a:ext cx="6172200" cy="5072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ger   -    bigg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ese words because you know how to read base words with e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wo things, and 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hree or more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the final consonant is doubled befo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e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the base word ends in y, change the y to an i before adding –er or -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219320" y="1676520"/>
          <a:ext cx="662940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00:59Z</dcterms:modified>
  <cp:revision>27</cp:revision>
  <dc:subject/>
  <dc:title>Slide 1</dc:title>
</cp:coreProperties>
</file>